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97434-5E4B-4C73-B7B6-60057A0AF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FFBD-110A-4358-9BE1-08981648D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E84C3-2885-4526-BA8D-66C05EE92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7316F-209D-4AA2-BAF3-0BC8EAA20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BD35D-3632-4CF3-B9BD-536FAEC7B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D3E9C-D8E4-4317-9BED-B8F6148D9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E4DAE-913F-4479-9AAD-B2E266AE6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9C789-D623-4515-8337-773DC6BA6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2004D-1352-49F4-A9EB-C2D3EFB35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A5001-A949-4EB6-BB99-703CB3E33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121D-8993-4719-8D65-316C3B899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D39B-DDB6-4469-9DA2-68ABA52D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81C50-EF1B-45D4-A1AB-16E6A86A1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B8773-31DE-4DF2-9121-AE6BB3204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5209F-998A-4E7A-9E40-B36646D7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EF5B0-9914-46D3-ABEB-5F3282F28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C0EB8-61E1-4313-A9EB-FCC25D9ED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09E7C5-2142-43A6-A98A-80C7F97B6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3014A0-816A-498E-87B1-DC121A10E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4B1191-6DE4-4550-8DB9-EBD776137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F8A366-2E62-4714-833F-B580340BE5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E782D4-C2D9-45B4-A016-642DF3A90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395C-1981-4992-9CA5-8D5FA5639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852756-4D8E-4B34-8F57-0DC69E413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DD64E2-B80D-4390-B2FA-1E01ADF31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963292-C711-46BD-ACCF-ECBA5C9DA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B50909-CDA9-4E53-AED9-EB040289D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B13D6A-8856-4BD9-86E0-83B02E9F3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E86FF1-43DD-4F9E-9F08-95442F685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7C00CE-233F-406F-9763-8608FE6A7F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C06B7-7E9C-4287-B8D8-639ED9C43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1D1BD-CA15-4588-951B-2D1600205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0852E-7B26-42A3-B923-9864CA6A1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7C0AD-1215-411E-9D23-694A716F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F1A53-39C1-4F90-B357-370031C80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874BE-0725-4976-B0EE-C9C44EC95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2DCE4-C6ED-4856-97F1-FC32659EA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C583E-D7EF-4872-9389-BE14437C4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E75EE-7C89-44FF-B886-E8BD1027D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11A1F-293D-4B4E-A918-E96C931C8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82A9B-A544-4E5E-AAF2-9253109B4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FC839-E370-4112-8AAE-9D5865568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458B27-77F5-420E-B03E-BCE8F821A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FDA68-D650-40D4-B333-5DF16558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1581-BE42-4C65-BAA5-2942C3ACE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4FEE-9DAE-46A7-9212-38F909677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74B6-E5EF-4111-91D0-AA104893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E85A-00D4-44AC-B60D-1BD32BBA7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12EE-CA52-4A8E-B6EA-D6215EA9797B}"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fefe"/>
                </a:solidFill>
                <a:latin typeface="Century Gothic"/>
              </a:rPr>
              <a:t>&lt;date/time&gt;</a:t>
            </a:r>
            <a:endParaRPr b="0" lang="en-US" sz="2400" spc="-1" strike="noStrike">
              <a:solidFill>
                <a:srgbClr val="000000"/>
              </a:solidFill>
              <a:latin typeface="Century Gothic"/>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E3F7-B680-4F53-BEAF-9D29F490FB64}" type="slidenum">
              <a:rPr b="0" lang="ru-RU" sz="1200" spc="-1" strike="noStrike">
                <a:solidFill>
                  <a:srgbClr val="94c6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76F4-02A3-424F-8225-3565628F84E0}"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A7C1-CE3E-46B6-BECF-0E982EB3E606}"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3" descr=""/>
          <p:cNvPicPr/>
          <p:nvPr/>
        </p:nvPicPr>
        <p:blipFill>
          <a:blip r:embed="rId1"/>
          <a:stretch/>
        </p:blipFill>
        <p:spPr>
          <a:xfrm>
            <a:off x="743040" y="682560"/>
            <a:ext cx="4230720" cy="3121200"/>
          </a:xfrm>
          <a:prstGeom prst="rect">
            <a:avLst/>
          </a:prstGeom>
          <a:ln w="0">
            <a:noFill/>
          </a:ln>
        </p:spPr>
      </p:pic>
      <p:sp>
        <p:nvSpPr>
          <p:cNvPr id="336" name="Прямоугольник 4"/>
          <p:cNvSpPr/>
          <p:nvPr/>
        </p:nvSpPr>
        <p:spPr>
          <a:xfrm>
            <a:off x="293760" y="4132440"/>
            <a:ext cx="871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entury Gothic"/>
            </a:endParaRPr>
          </a:p>
        </p:txBody>
      </p:sp>
      <p:pic>
        <p:nvPicPr>
          <p:cNvPr id="337" name="Picture 5" descr="ÐÐ°ÑÑÐ¸Ð½ÐºÐ¸ Ð¿Ð¾ Ð·Ð°Ð¿ÑÐ¾ÑÑ Ð±Ð»ÑÐ¶Ð´Ð°ÑÑÐ°Ñ Ð²Ð¾Ð»Ð½Ð°"/>
          <p:cNvPicPr/>
          <p:nvPr/>
        </p:nvPicPr>
        <p:blipFill>
          <a:blip r:embed="rId2"/>
          <a:stretch/>
        </p:blipFill>
        <p:spPr>
          <a:xfrm>
            <a:off x="3627360" y="3925800"/>
            <a:ext cx="4668840" cy="2341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755640" y="1052640"/>
            <a:ext cx="75614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Задача. </a:t>
            </a:r>
            <a:endParaRPr b="0" lang="en-US" sz="24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ысота волны во время шторма в океане достигает 8 метров, а высота блуждающей волны достигает 32 метров. На сколько метров высота блуждающей волны выше, чем высота волны во время шторма? Во сколько раз высота блуждающей волны выше, чем высота волны во время шторма?</a:t>
            </a:r>
            <a:endParaRPr b="0" lang="en-US" sz="24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755640" y="1052640"/>
            <a:ext cx="7561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entury Gothic"/>
            </a:endParaRPr>
          </a:p>
        </p:txBody>
      </p:sp>
      <p:pic>
        <p:nvPicPr>
          <p:cNvPr id="340" name="Picture 13" descr=""/>
          <p:cNvPicPr/>
          <p:nvPr/>
        </p:nvPicPr>
        <p:blipFill>
          <a:blip r:embed="rId1"/>
          <a:stretch/>
        </p:blipFill>
        <p:spPr>
          <a:xfrm>
            <a:off x="1239840" y="2928960"/>
            <a:ext cx="6662880" cy="87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8T08:39:40Z</dcterms:created>
  <dc:creator>Настя</dc:creator>
  <dc:description/>
  <dc:language>en-US</dc:language>
  <cp:lastModifiedBy>Irina</cp:lastModifiedBy>
  <dcterms:modified xsi:type="dcterms:W3CDTF">2023-04-24T03:20:41Z</dcterms:modified>
  <cp:revision>30</cp:revision>
  <dc:subject/>
  <dc:title>Презентация PowerPoint</dc:title>
</cp:coreProperties>
</file>